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AE0-0506-4019-B835-4E9CDE1D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C52-125E-4141-9B00-07E51BA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B2E-E441-4A56-A6FD-E729AC83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1F3-33BC-4A43-BF27-FD390E12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9C5C-ADC0-4368-BAE0-64A62538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6913-5DF0-42E2-B9ED-400E60C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7E8-91CD-4422-B2C5-A224E19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E34F-08FA-457C-B6AE-1F17457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3570-646F-4645-A02B-26A24289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E935-5F37-48E6-BE9B-B977DEEB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BCF-9C28-4D12-BE21-324134C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EB8-BA18-42F7-A1A3-A8126F9B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673-F405-4260-88CA-DD8E58D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957-9FDB-43A2-86EF-3502071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EE3E-8880-499A-AD9C-7DA10E4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60CC-D07E-403B-82B8-03AD5ECF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FE2-42B3-4E79-8C09-33F392AD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A90-148E-4987-8789-AA9D812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AC9-6845-4B8B-86B6-48B27A5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120-09B7-4BE4-B71B-6E3999A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C05-29DD-4E8B-9E02-E7BC2C1B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580-1C23-44C4-AAD9-399A126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5E9-3E97-473D-A023-CC4FE4D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0A3-C0F7-471C-8659-037E53D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B89-4616-403F-BEA3-3EAE5BFACA6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435-B867-4BB1-9614-72A6347B88A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F:\фото для презентации\10.jpg"/>
          <p:cNvPicPr/>
          <p:nvPr/>
        </p:nvPicPr>
        <p:blipFill>
          <a:blip r:embed="rId1"/>
          <a:stretch/>
        </p:blipFill>
        <p:spPr>
          <a:xfrm>
            <a:off x="0" y="214200"/>
            <a:ext cx="485784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фото для презентации\12.jpeg"/>
          <p:cNvPicPr/>
          <p:nvPr/>
        </p:nvPicPr>
        <p:blipFill>
          <a:blip r:embed="rId2"/>
          <a:stretch/>
        </p:blipFill>
        <p:spPr>
          <a:xfrm>
            <a:off x="4460760" y="25718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F:\фото для презентации\16451.jpg"/>
          <p:cNvPicPr/>
          <p:nvPr/>
        </p:nvPicPr>
        <p:blipFill>
          <a:blip r:embed="rId1"/>
          <a:stretch/>
        </p:blipFill>
        <p:spPr>
          <a:xfrm>
            <a:off x="214200" y="285840"/>
            <a:ext cx="423864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фото для презентации\Mugs_metal_handle_1.jpg"/>
          <p:cNvPicPr/>
          <p:nvPr/>
        </p:nvPicPr>
        <p:blipFill>
          <a:blip r:embed="rId2"/>
          <a:stretch/>
        </p:blipFill>
        <p:spPr>
          <a:xfrm>
            <a:off x="4429080" y="315432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F:\фото для презентации\p-52676.png"/>
          <p:cNvPicPr/>
          <p:nvPr/>
        </p:nvPicPr>
        <p:blipFill>
          <a:blip r:embed="rId1"/>
          <a:stretch/>
        </p:blipFill>
        <p:spPr>
          <a:xfrm>
            <a:off x="0" y="357120"/>
            <a:ext cx="421956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фото для презентации\image.jpeg"/>
          <p:cNvPicPr/>
          <p:nvPr/>
        </p:nvPicPr>
        <p:blipFill>
          <a:blip r:embed="rId2"/>
          <a:stretch/>
        </p:blipFill>
        <p:spPr>
          <a:xfrm>
            <a:off x="4572000" y="2786040"/>
            <a:ext cx="3809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F:\фото для презентации\viking-spoon.jpg"/>
          <p:cNvPicPr/>
          <p:nvPr/>
        </p:nvPicPr>
        <p:blipFill>
          <a:blip r:embed="rId1"/>
          <a:stretch/>
        </p:blipFill>
        <p:spPr>
          <a:xfrm>
            <a:off x="357120" y="500040"/>
            <a:ext cx="476244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фото для презентации\35165830-lozka.jpeg"/>
          <p:cNvPicPr/>
          <p:nvPr/>
        </p:nvPicPr>
        <p:blipFill>
          <a:blip r:embed="rId2"/>
          <a:stretch/>
        </p:blipFill>
        <p:spPr>
          <a:xfrm>
            <a:off x="4714920" y="314316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948520" cy="229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7:40:30Z</dcterms:created>
  <dc:creator>Биология</dc:creator>
  <dc:description/>
  <dc:language>en-US</dc:language>
  <cp:lastModifiedBy>сош3</cp:lastModifiedBy>
  <dcterms:modified xsi:type="dcterms:W3CDTF">2012-12-18T06:05:47Z</dcterms:modified>
  <cp:revision>2</cp:revision>
  <dc:subject/>
  <dc:title>Слайд 1</dc:title>
</cp:coreProperties>
</file>